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2.png" ContentType="image/png"/>
  <Override PartName="/ppt/media/image51.jpeg" ContentType="image/jpeg"/>
  <Override PartName="/ppt/media/image5.pct" ContentType="image/x-pict"/>
  <Override PartName="/ppt/media/image37.jpeg" ContentType="image/jpeg"/>
  <Override PartName="/ppt/media/image30.png" ContentType="image/png"/>
  <Override PartName="/ppt/media/image60.jpeg" ContentType="image/jpeg"/>
  <Override PartName="/ppt/media/image11.jpeg" ContentType="image/jpeg"/>
  <Override PartName="/ppt/media/image24.png" ContentType="image/png"/>
  <Override PartName="/ppt/media/image1.png" ContentType="image/png"/>
  <Override PartName="/ppt/media/image14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8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22.jpeg" ContentType="image/jpeg"/>
  <Override PartName="/ppt/media/image6.pct" ContentType="image/x-pict"/>
  <Override PartName="/ppt/media/image67.jpeg" ContentType="image/jpeg"/>
  <Override PartName="/ppt/media/image66.jpeg" ContentType="image/jpeg"/>
  <Override PartName="/ppt/media/image33.jpeg" ContentType="image/jpeg"/>
  <Override PartName="/ppt/media/image27.png" ContentType="image/png"/>
  <Override PartName="/ppt/media/image65.jpeg" ContentType="image/jpeg"/>
  <Override PartName="/ppt/media/image8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0.png" ContentType="image/png"/>
  <Override PartName="/ppt/media/image16.jpeg" ContentType="image/jpeg"/>
  <Override PartName="/ppt/media/image26.jpeg" ContentType="image/jpeg"/>
  <Override PartName="/ppt/media/image42.png" ContentType="image/png"/>
  <Override PartName="/ppt/media/image2.png" ContentType="image/png"/>
  <Override PartName="/ppt/media/image32.png" ContentType="image/png"/>
  <Override PartName="/ppt/media/image4.pct" ContentType="image/x-pict"/>
  <Override PartName="/ppt/media/image34.jpeg" ContentType="image/jpeg"/>
  <Override PartName="/ppt/media/image23.jpeg" ContentType="image/jpeg"/>
  <Override PartName="/ppt/media/image15.jpeg" ContentType="image/jpeg"/>
  <Override PartName="/ppt/media/image7.pct" ContentType="image/x-pict"/>
  <Override PartName="/ppt/media/image53.jpeg" ContentType="image/jpeg"/>
  <Override PartName="/ppt/media/image10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49.pct" ContentType="image/x-pict"/>
  <Override PartName="/ppt/media/image35.png" ContentType="image/png"/>
  <Override PartName="/ppt/media/image36.jpeg" ContentType="image/jpeg"/>
  <Override PartName="/ppt/media/image3.jpeg" ContentType="image/jpeg"/>
  <Override PartName="/ppt/media/image41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7.png" ContentType="image/png"/>
  <Override PartName="/ppt/media/image48.jpeg" ContentType="image/jpeg"/>
  <Override PartName="/ppt/media/image50.pct" ContentType="image/x-pict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13F3-7FE1-4DC1-9046-A80027FFD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51FC-7CD8-4F37-91E0-9EA8C7FE1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93B2-54C4-4F14-AC93-70C497E6D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637D-A73B-4E3C-8B3F-B195F49D8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9AC8-6D5E-4626-B237-D3239CEEA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EFC3-4E82-421B-9766-47CA079B5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6252-D08F-493F-B9E6-E151C830F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0FAA-BA8C-4DC9-9681-94888DD7F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130E-1BC6-4EBF-89D2-CDF2ABE1E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A946-33DA-475C-9382-B2DD406CC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C16E-4025-44E5-8594-FA4843081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FE5A-C796-40F2-96D6-8E7D9B5CC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7720" y="6524640"/>
            <a:ext cx="181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800" spc="-1" strike="noStrike">
                <a:solidFill>
                  <a:srgbClr val="999999"/>
                </a:solidFill>
                <a:latin typeface="DINMittelschrift"/>
              </a:rPr>
              <a:t>game design archaeology, 06.09.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911720" y="6455880"/>
            <a:ext cx="446040" cy="258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en-US" sz="800" spc="-1" strike="noStrike">
                <a:solidFill>
                  <a:srgbClr val="999999"/>
                </a:solidFill>
                <a:latin typeface="DINMittelschrif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C3BBB863-8487-4002-B701-762B7A5E57EA}" type="slidenum">
              <a:rPr b="0" lang="en-US" sz="800" spc="-1" strike="noStrike">
                <a:solidFill>
                  <a:srgbClr val="999999"/>
                </a:solidFill>
                <a:latin typeface="DINMittelschrif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65120" y="6380280"/>
            <a:ext cx="1071720" cy="27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1520" y="2603520"/>
            <a:ext cx="462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NMittelschrift"/>
              </a:rPr>
              <a:t>game design archae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8840" y="3352680"/>
            <a:ext cx="45291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c4c4c"/>
                </a:solidFill>
                <a:latin typeface="DINMittelschrift"/>
              </a:rPr>
              <a:t>steffen p wal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4c4c"/>
                </a:solidFill>
                <a:latin typeface="DINMittelschrift"/>
              </a:rPr>
              <a:t>computer aided architectural design (caa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4c4c"/>
                </a:solidFill>
                <a:latin typeface="DINMittelschrift"/>
              </a:rPr>
              <a:t>game design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c4c4c"/>
                </a:solidFill>
                <a:latin typeface="DINMittelschrift"/>
              </a:rPr>
              <a:t>06.09.2004 / conviv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6960" y="588960"/>
            <a:ext cx="2521080" cy="65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73760" y="5862600"/>
            <a:ext cx="1638360" cy="46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image" Target="../media/image50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 1451 Mittelschrift"/>
              </a:rPr>
              <a:t>narrativ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52600" y="1606680"/>
            <a:ext cx="3752640" cy="384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40240" y="1600200"/>
            <a:ext cx="22701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9F4B-51C4-4A37-8AFF-3D872C48D7C1}" type="slidenum">
              <a:t>10</a:t>
            </a:fld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signatur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28880" y="1700280"/>
            <a:ext cx="2728800" cy="34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10040" y="2065320"/>
            <a:ext cx="4206960" cy="29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134E-AB58-40BD-84D5-EBCF3A06F856}" type="slidenum">
              <a:t>11</a:t>
            </a:fld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pleasur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00" y="2265480"/>
            <a:ext cx="3089160" cy="2479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63880" y="2268360"/>
            <a:ext cx="4556160" cy="25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D118-51E3-4F31-A960-2442D9CD368B}" type="slidenum">
              <a:t>12</a:t>
            </a:fld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30480" y="2011320"/>
            <a:ext cx="2376360" cy="293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62360" y="2025720"/>
            <a:ext cx="4160880" cy="2933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 1451 Mittelschrift"/>
              </a:rPr>
              <a:t>garden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6073-4B02-40E0-B308-23E2E983BF7D}" type="slidenum">
              <a:t>13</a:t>
            </a:fld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garden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9F0A-32E7-47D5-8B41-9D26752CA965}" type="slidenum">
              <a:t>14</a:t>
            </a:fld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physical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56000" y="1709640"/>
            <a:ext cx="4032000" cy="40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6D48-82DE-4667-B1FE-028EBBA93112}" type="slidenum">
              <a:t>15</a:t>
            </a:fld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impossibl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11600" y="1495440"/>
            <a:ext cx="3519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3D49-1E60-4DDA-B7A0-09C3C9E356D9}" type="slidenum">
              <a:t>16</a:t>
            </a:fld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ve labyrinth - trans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28880" y="2116080"/>
            <a:ext cx="4555800" cy="302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630760" y="2060640"/>
            <a:ext cx="223200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1374-ED6E-4239-8E4C-C5DFF90C1FC4}" type="slidenum">
              <a:t>17</a:t>
            </a:fld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pervasiv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79360" y="1413000"/>
            <a:ext cx="3583080" cy="4706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32280" y="1413000"/>
            <a:ext cx="3137040" cy="220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32280" y="3765600"/>
            <a:ext cx="3138480" cy="23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3D85-3B40-4E69-AA9D-48AB2F01A987}" type="slidenum">
              <a:t>18</a:t>
            </a:fld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ity core 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36840" y="1441440"/>
            <a:ext cx="6068880" cy="450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1461-8DA9-423F-AD4C-52182182D032}" type="slidenum">
              <a:t>19</a:t>
            </a:fld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ffff"/>
                </a:solidFill>
                <a:latin typeface="DINMittelschrift"/>
              </a:rPr>
              <a:t>scop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6903-F0B5-4B9A-BD77-D84FC70A6A3A}" type="slidenum">
              <a:t>2</a:t>
            </a:fld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labyrinth -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47600" y="3938760"/>
            <a:ext cx="2857680" cy="218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68480" y="1600200"/>
            <a:ext cx="2814480" cy="218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830920" y="3938760"/>
            <a:ext cx="167148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E43B-A744-43C3-A798-27420CE08A93}" type="slidenum">
              <a:t>20</a:t>
            </a:fld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ffff"/>
                </a:solidFill>
                <a:latin typeface="DINMittelschrift"/>
              </a:rPr>
              <a:t>carous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AE72-897A-4B0B-892C-589474EF6050}" type="slidenum">
              <a:t>21</a:t>
            </a:fld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00" y="1557360"/>
            <a:ext cx="784836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carousel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= serious war game / arabia – turkey, ca. 12</a:t>
            </a:r>
            <a:r>
              <a:rPr b="0" lang="en-GB" sz="2200" spc="-1" strike="noStrike" baseline="30000">
                <a:solidFill>
                  <a:srgbClr val="4c4c4c"/>
                </a:solidFill>
                <a:latin typeface="DINMittelschrift"/>
              </a:rPr>
              <a:t>th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“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Mounted participants threw small clay balls filled with scented water; a lingering odor tagged those who failed to catch the missiles.” (Adams 1991) -&gt; crusader import to europe, </a:t>
            </a: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garosello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(it.), </a:t>
            </a: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carosella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(sp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carrousel 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(fr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french spectacle of horsemanship and costume, 17</a:t>
            </a:r>
            <a:r>
              <a:rPr b="0" lang="en-GB" sz="2200" spc="-1" strike="noStrike" baseline="30000">
                <a:solidFill>
                  <a:srgbClr val="4c4c4c"/>
                </a:solidFill>
                <a:latin typeface="DINMittelschrift"/>
              </a:rPr>
              <a:t>th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/18</a:t>
            </a:r>
            <a:r>
              <a:rPr b="0" lang="en-GB" sz="2200" spc="-1" strike="noStrike" baseline="30000">
                <a:solidFill>
                  <a:srgbClr val="4c4c4c"/>
                </a:solidFill>
                <a:latin typeface="DINMittelschrift"/>
              </a:rPr>
              <a:t>th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c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825720"/>
            <a:ext cx="936360" cy="1584360"/>
          </a:xfrm>
          <a:prstGeom prst="downArrow">
            <a:avLst>
              <a:gd name="adj1" fmla="val 50000"/>
              <a:gd name="adj2" fmla="val 42301"/>
            </a:avLst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7E4F-0EBC-47C4-BDD0-5BE0D9959F6A}" type="slidenum">
              <a:t>22</a:t>
            </a:fld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0544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74FE-F6DF-42DE-9472-380EA776A2F0}" type="slidenum">
              <a:t>23</a:t>
            </a:fld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673B-7E66-4AB5-9110-34DF10E0A832}" type="slidenum">
              <a:t>24</a:t>
            </a:fld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05440" y="4683240"/>
            <a:ext cx="2476440" cy="140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81280" y="3500280"/>
            <a:ext cx="2743200" cy="2643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1484280"/>
            <a:ext cx="7848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central aspect of </a:t>
            </a: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carrousel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: “tilting at the quintai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def.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 contraption consisting of a wooden shield mounted on a beam with a counter-weight upon a pole. when the lance hits the shield, it will swing round, and the counter-weight will strike the knight out of the saddle unless the horse is fast enough, and the knight av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2C00-1940-4E84-BB40-5B90D4E9301F}" type="slidenum">
              <a:t>25</a:t>
            </a:fld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779480"/>
            <a:ext cx="4824360" cy="4097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168880" y="1600200"/>
            <a:ext cx="299736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181480" y="3938760"/>
            <a:ext cx="297036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6036-A0C2-4969-8F6A-8E9DA99FE2DD}" type="slidenum">
              <a:t>26</a:t>
            </a:fld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4840" y="1600200"/>
            <a:ext cx="334152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03840" y="1600200"/>
            <a:ext cx="2720880" cy="413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49C2-8984-4374-945F-7ADF0D4F5F1C}" type="slidenum">
              <a:t>27</a:t>
            </a:fld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1844640"/>
            <a:ext cx="3429000" cy="354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2506680"/>
            <a:ext cx="3429000" cy="22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F9AD-4582-4AB1-BD62-7C1E912F639C}" type="slidenum">
              <a:t>28</a:t>
            </a:fld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09960" y="2028960"/>
            <a:ext cx="31240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E707-80F4-4065-A6A3-41881549190D}" type="slidenum">
              <a:t>29</a:t>
            </a:fld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game design archa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00" y="1143000"/>
            <a:ext cx="7848360" cy="76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buClr>
                <a:srgbClr val="4c4c4c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part of ph.d. research into </a:t>
            </a:r>
            <a:r>
              <a:rPr b="0" i="1" lang="en-GB" sz="2200" spc="-1" strike="noStrike">
                <a:solidFill>
                  <a:srgbClr val="4c4c4c"/>
                </a:solidFill>
                <a:latin typeface="DINMittelschrift"/>
              </a:rPr>
              <a:t>archITectural gam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buClr>
                <a:srgbClr val="4c4c4c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eth caad projects: building intelligence, computer aided urban planning/design, ubiquitous computing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buClr>
                <a:srgbClr val="4c4c4c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overall tas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- research &amp; describe (historic) pleasure architectures as 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technologized game designs -&gt; inspirational archae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- come up with a systematic approach to the design of 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engaging pervasive / wireless / mobile games “running” 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on platforms such as body, device, room, building,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- define a archITectural game design language also for 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non-entertainment purposes (tourism, learning, heal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	</a:t>
            </a: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- prototype archITectural gam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999999"/>
                </a:solidFill>
                <a:latin typeface="DINMittelschrift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630F-A9D0-4F65-A1D9-1DF4732DF02B}" type="slidenum">
              <a:t>3</a:t>
            </a:fld>
          </a:p>
        </p:txBody>
      </p:sp>
    </p:spTree>
  </p:cSld>
  <p:transition spd="med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08480" y="1447920"/>
            <a:ext cx="2325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23FC-B0F7-4605-9912-A60CBE2B0F37}" type="slidenum">
              <a:t>30</a:t>
            </a:fld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serious 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350040" cy="39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D6E3-B9BA-4CB5-8A6D-2C268B230783}" type="slidenum">
              <a:t>31</a:t>
            </a:fld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(vertical) 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90720" y="1484280"/>
            <a:ext cx="3560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D8D2-04EE-4A90-AB1D-2532EBCCE452}" type="slidenum">
              <a:t>32</a:t>
            </a:fld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(vertical &amp; curvilinear) 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31840" y="1773360"/>
            <a:ext cx="5080320" cy="346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3E7D-D4A7-4145-A71C-64094CB88C61}" type="slidenum">
              <a:t>33</a:t>
            </a:fld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vertical / curvilinear carousel - 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76440" y="1676520"/>
            <a:ext cx="4229280" cy="1612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61016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8A99-A57D-4715-91CB-0BDEDC8F84E5}" type="slidenum">
              <a:t>34</a:t>
            </a:fld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DIN 1451 Mittelschrift"/>
              </a:rPr>
              <a:t>in-game carou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03440" y="1424160"/>
            <a:ext cx="5937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5E46-1B2C-4582-9C60-82BA8C7D83D4}" type="slidenum">
              <a:t>35</a:t>
            </a:fld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carousel - k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1609560"/>
            <a:ext cx="761976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6DE7-7A25-47FD-BA71-952A6C64FC75}" type="slidenum">
              <a:t>36</a:t>
            </a:fld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carousel - k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4720" y="1557360"/>
            <a:ext cx="7127640" cy="43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CD4A-D868-47BB-B2DA-5608476B403D}" type="slidenum">
              <a:t>37</a:t>
            </a:fld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carousel - k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2567160"/>
            <a:ext cx="4105440" cy="2301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16360" y="2571840"/>
            <a:ext cx="3903840" cy="22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2E52-837E-4B05-99FF-A1E60CE6E983}" type="slidenum">
              <a:t>38</a:t>
            </a:fld>
          </a:p>
        </p:txBody>
      </p:sp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carousel -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16360" y="2624040"/>
            <a:ext cx="3297240" cy="231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C8BB-C608-4CDB-8E03-AE5237978EDE}" type="slidenum">
              <a:t>39</a:t>
            </a:fld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archITectural gam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11240" y="1523880"/>
          <a:ext cx="70866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523880"/>
                    <a:ext cx="70866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113520" y="2514600"/>
          <a:ext cx="158256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3520" y="2514600"/>
                    <a:ext cx="15825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828800" y="2666880"/>
          <a:ext cx="14065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666880"/>
                    <a:ext cx="1406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2040" y="5070600"/>
            <a:ext cx="933480" cy="102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29000" y="2590920"/>
            <a:ext cx="2362320" cy="22096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C671-E13B-49AE-9A6C-1E82943BE1BB}" type="slidenum">
              <a:t>4</a:t>
            </a:fld>
          </a:p>
        </p:txBody>
      </p:sp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carousel -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00120" y="1413000"/>
            <a:ext cx="6141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EF8D-BE51-4667-AF0A-4D56F9C6A210}" type="slidenum">
              <a:t>40</a:t>
            </a:fld>
          </a:p>
        </p:txBody>
      </p:sp>
    </p:spTree>
  </p:cSld>
  <p:transition spd="med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32000" y="186840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DINMittelschrift"/>
              </a:rPr>
              <a:t>kindergarden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76ED-148F-4A09-8795-642ADFDB5CDA}" type="slidenum">
              <a:t>41</a:t>
            </a:fld>
          </a:p>
        </p:txBody>
      </p:sp>
    </p:spTree>
  </p:cSld>
  <p:transition spd="med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60800" y="1484280"/>
            <a:ext cx="2822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E56F-FCD9-4E1E-A993-CBE6B99B29F4}" type="slidenum">
              <a:t>42</a:t>
            </a:fld>
          </a:p>
        </p:txBody>
      </p:sp>
    </p:spTree>
  </p:cSld>
  <p:transition spd="med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890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A5CD-E13D-452D-9FE5-870A55F7D5F3}" type="slidenum">
              <a:t>43</a:t>
            </a:fld>
          </a:p>
        </p:txBody>
      </p:sp>
    </p:spTree>
  </p:cSld>
  <p:transition spd="med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16000" y="1195560"/>
            <a:ext cx="698508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5F47-AC54-4747-8763-92040D81DF2D}" type="slidenum">
              <a:t>44</a:t>
            </a:fld>
          </a:p>
        </p:txBody>
      </p:sp>
    </p:spTree>
  </p:cSld>
  <p:transition spd="med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59040" y="1424160"/>
            <a:ext cx="5425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1CD9-736C-43DE-8564-706730245831}" type="slidenum">
              <a:t>45</a:t>
            </a:fld>
          </a:p>
        </p:txBody>
      </p:sp>
    </p:spTree>
  </p:cSld>
  <p:transition spd="med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168720" y="1452600"/>
            <a:ext cx="277164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F746-ACA9-464A-856D-EC422F538A1A}" type="slidenum">
              <a:t>46</a:t>
            </a:fld>
          </a:p>
        </p:txBody>
      </p:sp>
    </p:spTree>
  </p:cSld>
  <p:transition spd="med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09880" y="1484280"/>
            <a:ext cx="33242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F4FD-E17A-4589-A70A-5CEFAE8503C7}" type="slidenum">
              <a:t>47</a:t>
            </a:fld>
          </a:p>
        </p:txBody>
      </p:sp>
    </p:spTree>
  </p:cSld>
  <p:transition spd="med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108240" y="1424160"/>
            <a:ext cx="29275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EA72-F918-429B-BA23-BDBF5CD39539}" type="slidenum">
              <a:t>48</a:t>
            </a:fld>
          </a:p>
        </p:txBody>
      </p:sp>
    </p:spTree>
  </p:cSld>
  <p:transition spd="med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11200" y="1424160"/>
            <a:ext cx="63198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58B3-FC3E-47FD-AA48-41EBC75359AA}" type="slidenum">
              <a:t>49</a:t>
            </a:fld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ffff"/>
                </a:solidFill>
                <a:latin typeface="DINMittelschrift"/>
              </a:rPr>
              <a:t>fu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0948-1C63-4697-8EC0-4A0CD649A4EE}" type="slidenum">
              <a:t>5</a:t>
            </a:fld>
          </a:p>
        </p:txBody>
      </p:sp>
    </p:spTree>
  </p:cSld>
  <p:transition spd="med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digital kinder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54120" y="1484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B46E-E9BE-4BCB-B35D-DCCF5FE330D3}" type="slidenum">
              <a:t>50</a:t>
            </a:fld>
          </a:p>
        </p:txBody>
      </p:sp>
    </p:spTree>
  </p:cSld>
  <p:transition spd="med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ffff"/>
                </a:solidFill>
                <a:latin typeface="DINMittelschrift"/>
              </a:rPr>
              <a:t>fu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EAB4-8786-4153-B4D1-EFB3964334EF}" type="slidenum">
              <a:t>51</a:t>
            </a:fld>
          </a:p>
        </p:txBody>
      </p:sp>
    </p:spTree>
  </p:cSld>
  <p:transition spd="med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architectural forms of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1197000"/>
            <a:ext cx="68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beauty / immersion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intellectual problem solving / competition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social interaction / comedy / thrill of danger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physical activity / love / creation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advancement &amp; completion / power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discovery &amp; application of an 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8000" y="4797360"/>
            <a:ext cx="5429520" cy="1324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40360" y="3429000"/>
            <a:ext cx="936360" cy="1079640"/>
          </a:xfrm>
          <a:prstGeom prst="downArrow">
            <a:avLst>
              <a:gd name="adj1" fmla="val 50000"/>
              <a:gd name="adj2" fmla="val 28825"/>
            </a:avLst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D633-24D1-46BF-A6E4-36126A52A781}" type="slidenum">
              <a:t>52</a:t>
            </a:fld>
          </a:p>
        </p:txBody>
      </p:sp>
    </p:spTree>
  </p:cSld>
  <p:transition spd="med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ffff"/>
                </a:solidFill>
                <a:latin typeface="DINMittelschrift"/>
              </a:rPr>
              <a:t>no fu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3E5D-B337-4BF6-AD74-72C5B1705485}" type="slidenum">
              <a:t>53</a:t>
            </a:fld>
          </a:p>
        </p:txBody>
      </p:sp>
    </p:spTree>
  </p:cSld>
  <p:transition spd="med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but: this all does not matter, reall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200" y="2505240"/>
            <a:ext cx="784836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17640" algn="ctr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because we are equal within the magic circ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 algn="ctr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we shall not kill, but realise each in the other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40" algn="ctr">
              <a:lnSpc>
                <a:spcPct val="100000"/>
              </a:lnSpc>
              <a:spcBef>
                <a:spcPts val="1375"/>
              </a:spcBef>
              <a:spcAft>
                <a:spcPts val="139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DINMittelschrift"/>
              </a:rPr>
              <a:t>the pursuit of knowledge in the company of fri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A928-C69C-4B45-BFDA-C90B5D6093E7}" type="slidenum">
              <a:t>54</a:t>
            </a:fld>
          </a:p>
        </p:txBody>
      </p:sp>
    </p:spTree>
  </p:cSld>
  <p:transition spd="med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40160" y="4446720"/>
            <a:ext cx="446040" cy="44604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1484280"/>
            <a:ext cx="2786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steffen p wal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eth zuri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faculty of architec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institute for building technology / ca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game design re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HIL E 15.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CH 8093 zurich-hoenggerbe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T +41 1 633 40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F +41 1 633 10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walz@arch.ethz.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300" spc="-1" strike="noStrike">
                <a:solidFill>
                  <a:srgbClr val="4c4c4c"/>
                </a:solidFill>
                <a:latin typeface="DINMittelschrift"/>
              </a:rPr>
              <a:t>www.caad.arch.ehtz.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447A-6636-4E5A-84AB-98C8CEBF02F0}" type="slidenum">
              <a:t>55</a:t>
            </a:fld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4724280"/>
            <a:ext cx="7086600" cy="1219320"/>
          </a:xfrm>
          <a:prstGeom prst="roundRect">
            <a:avLst>
              <a:gd name="adj" fmla="val 16667"/>
            </a:avLst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 1451 Mittelschrift"/>
              </a:rPr>
              <a:t>fun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363680"/>
            <a:ext cx="68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beauty / immersion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intellectual problem solving / competition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social interaction / comedy / thrill of danger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physical activity / love / creation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advancement &amp; completion / power /</a:t>
            </a:r>
            <a:br>
              <a:rPr sz="2000"/>
            </a:br>
            <a:r>
              <a:rPr b="0" lang="de-DE" sz="2000" spc="-1" strike="noStrike">
                <a:solidFill>
                  <a:srgbClr val="4c4c4c"/>
                </a:solidFill>
                <a:latin typeface="DINMittelschrift"/>
              </a:rPr>
              <a:t>discovery &amp; application of an 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>
            <a:off x="4571640" y="3429000"/>
            <a:ext cx="1080" cy="1008720"/>
          </a:xfrm>
          <a:prstGeom prst="straightConnector1">
            <a:avLst/>
          </a:prstGeom>
          <a:ln w="9360">
            <a:solidFill>
              <a:srgbClr val="4c4c4c">
                <a:alpha val="65000"/>
              </a:srgbClr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755640" y="4419720"/>
            <a:ext cx="25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NMittelschrift"/>
              </a:rPr>
              <a:t>labyrinth</a:t>
            </a:r>
            <a:r>
              <a:rPr b="0" lang="en-US" sz="2000" spc="-1" strike="noStrike">
                <a:solidFill>
                  <a:srgbClr val="000000"/>
                </a:solidFill>
                <a:latin typeface="DINMittelschrif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5840" y="4419720"/>
            <a:ext cx="25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DINMittelschrift"/>
              </a:rPr>
              <a:t>carousel</a:t>
            </a:r>
            <a:r>
              <a:rPr b="1" lang="de-DE" sz="2000" spc="-1" strike="noStrike">
                <a:solidFill>
                  <a:srgbClr val="ffffff"/>
                </a:solidFill>
                <a:latin typeface="DINMittelschrif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1240" y="47214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NMittelschrift"/>
              </a:rPr>
              <a:t>kindergar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 flipH="1">
            <a:off x="2626920" y="3429000"/>
            <a:ext cx="1945440" cy="1008720"/>
          </a:xfrm>
          <a:prstGeom prst="straightConnector1">
            <a:avLst/>
          </a:prstGeom>
          <a:ln w="9360">
            <a:solidFill>
              <a:srgbClr val="4c4c4c">
                <a:alpha val="65000"/>
              </a:srgbClr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4572000" y="3429000"/>
            <a:ext cx="1945440" cy="1008720"/>
          </a:xfrm>
          <a:prstGeom prst="straightConnector1">
            <a:avLst/>
          </a:prstGeom>
          <a:ln w="9360">
            <a:solidFill>
              <a:srgbClr val="4c4c4c">
                <a:alpha val="65000"/>
              </a:srgbClr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600200" y="54100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IN 1451 Mittelschrift"/>
              </a:rPr>
              <a:t>ARCHAEOLOGICAL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750C-BE2D-4BC0-B39D-691331BE061F}" type="slidenum">
              <a:t>6</a:t>
            </a:fld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18684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DINMittelschrift"/>
              </a:rPr>
              <a:t>labyrint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6574-6DFD-45B8-83CD-5BE138B8A32C}" type="slidenum">
              <a:t>7</a:t>
            </a:fld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 1451 Mittelschrift"/>
              </a:rPr>
              <a:t>labyr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1680" y="1859040"/>
            <a:ext cx="3646440" cy="3357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67440" y="1909800"/>
            <a:ext cx="2239920" cy="32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C192-A363-4A53-BB32-698EBBFAD674}" type="slidenum">
              <a:t>8</a:t>
            </a:fld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DINMittelschrift"/>
              </a:rPr>
              <a:t>labyrinth &amp; mon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35440" cy="46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6018-B82D-40B7-9E53-7A4AC8510D05}" type="slidenum">
              <a:t>9</a:t>
            </a:fld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3:53:07Z</dcterms:created>
  <dc:creator>Steffen P Walz</dc:creator>
  <dc:description/>
  <dc:language>en-US</dc:language>
  <cp:lastModifiedBy>Steffen P. Walz</cp:lastModifiedBy>
  <dcterms:modified xsi:type="dcterms:W3CDTF">2004-09-06T08:44:15Z</dcterms:modified>
  <cp:revision>140</cp:revision>
  <dc:subject/>
  <dc:title>Folie 1</dc:title>
</cp:coreProperties>
</file>