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2152-CA00-437C-B8D2-88D1D199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6F51-D64F-40E8-9720-08EEEA70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910C-5779-4790-82FB-FAC67F1C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5A5A-1EC1-4A20-811A-67FAC2D7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CE0C-786C-4983-9C2C-59E849EB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5337-6B8A-4CEC-A93F-45582DB6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7FDF-726A-41E7-92CD-2C57E39F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A1D3-2E34-4B61-8A77-746D20CD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8FF5-F74A-47E4-9CC3-75DBE2C2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ACF6-D313-48DC-8B96-3CAD23DA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98FB-8E3E-496B-A900-E339CEA9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FAB3-0211-4ECA-BB2E-357C64AF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974D-8327-4FC8-9DCA-257F748FEC81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ITC Officina Sans Book"/>
              </a:rPr>
              <a:t>Game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ITC Officina Sans Book"/>
              </a:rPr>
              <a:t>Spirits of Split is a live action role playing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ITC Officina Sans Book"/>
              </a:rPr>
              <a:t>Spirit of Split is played in the city core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ITC Officina Sans Book"/>
              </a:rPr>
              <a:t>Game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ITC Officina Sans Book"/>
              </a:rPr>
              <a:t>The target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TC Officina Sans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ITC Officina Sans Book"/>
              </a:rPr>
              <a:t>Tourists visiting Spl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ITC Officina Sans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ITC Officina Sans Book"/>
              </a:rPr>
              <a:t>Learn the history of Spl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ITC Officina Sans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ITC Officina Sans Book"/>
              </a:rPr>
              <a:t>Learn about Diocletian palace</a:t>
            </a:r>
            <a:r>
              <a:rPr b="0" lang="sv-SE" sz="2400" spc="-1" strike="noStrike">
                <a:solidFill>
                  <a:srgbClr val="000000"/>
                </a:solidFill>
                <a:latin typeface="ITC Officina Sans 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ITC Officina Sans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ITC Officina Sans Book"/>
              </a:rPr>
              <a:t>Experience the city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TC Officina Sans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ITC Officina Sans Book"/>
              </a:rPr>
              <a:t>Locals living in Spl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ITC Officina Sans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ITC Officina Sans Book"/>
              </a:rPr>
              <a:t>Design your own character of Spl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ITC Officina Sans Book"/>
              </a:rPr>
              <a:t>Game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ITC Officina Sans Book"/>
              </a:rPr>
              <a:t>By playing the game the tour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TC Officina Sans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ITC Officina Sans Book"/>
              </a:rPr>
              <a:t>Have Fun in the city’s inner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TC Officina Sans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ITC Officina Sans Book"/>
              </a:rPr>
              <a:t>Learn about Split’s history and heri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TC Officina Sans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ITC Officina Sans Book"/>
              </a:rPr>
              <a:t>Take home a souven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ITC Officina Sans Book"/>
              </a:rPr>
              <a:t>Game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ITC Officina Sans Book"/>
              </a:rPr>
              <a:t>By playing the game the lo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TC Officina Sans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ITC Officina Sans Book"/>
              </a:rPr>
              <a:t>Have fun by creating new Spir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TC Officina Sans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ITC Officina Sans Book"/>
              </a:rPr>
              <a:t>Keep the game a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ITC Officina Sans Book"/>
              </a:rPr>
              <a:t>Game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ITC Officina Sans Book"/>
              </a:rPr>
              <a:t>To play the game, the tourist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ITC Officina Sans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ITC Officina Sans Book"/>
              </a:rPr>
              <a:t>Collect a packet of keys, cube-frame and a broch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ITC Officina Sans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ITC Officina Sans Book"/>
              </a:rPr>
              <a:t>Walk around the palace and locates the historical 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ITC Officina Sans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ITC Officina Sans Book"/>
              </a:rPr>
              <a:t>Get clues from various posters around the pa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ITC Officina Sans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ITC Officina Sans Book"/>
              </a:rPr>
              <a:t>Exchange a key for a c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ITC Officina Sans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ITC Officina Sans Book"/>
              </a:rPr>
              <a:t>Proceed until all cubes are colle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ITC Officina Sans Book"/>
              </a:rPr>
              <a:t>The cubes build a souvenier with pictures of Split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7:24:48Z</dcterms:created>
  <dc:creator>Rosa Gudjonsdottir</dc:creator>
  <dc:description/>
  <dc:language>en-US</dc:language>
  <cp:lastModifiedBy>miljenko</cp:lastModifiedBy>
  <dcterms:modified xsi:type="dcterms:W3CDTF">2004-09-09T20:41:56Z</dcterms:modified>
  <cp:revision>38</cp:revision>
  <dc:subject/>
  <dc:title>Slide 1</dc:title>
</cp:coreProperties>
</file>