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CD0-654F-4C27-AB03-DAE80F1C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528-C7CD-4CBA-AB5C-58868927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074-D6E0-4F5C-B1EA-82C54B03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1E8-70B3-4750-B8EB-C74593A7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99E-B4B2-4DB8-B29E-664FF742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759-4EED-4660-AAC0-21570F43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25D-2988-4912-B4F7-AE45FE41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078-7466-4E09-B4BB-826798DC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306-A2F7-454D-856E-EF61E043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386-FDE2-4039-B607-56FA1424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A07-EEE2-44F6-98FC-8BDB7D2D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3F1-0B4E-4FD1-A6B9-54244C8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A7AE-8FE3-487A-ACA3-FAD59A3A5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952560" cy="800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36000" y="692280"/>
            <a:ext cx="952200" cy="799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0" y="0"/>
            <a:ext cx="9144000" cy="503280"/>
          </a:xfrm>
          <a:prstGeom prst="rect">
            <a:avLst/>
          </a:prstGeom>
          <a:solidFill>
            <a:srgbClr val="f682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0" y="6354720"/>
            <a:ext cx="9144000" cy="503280"/>
          </a:xfrm>
          <a:prstGeom prst="rect">
            <a:avLst/>
          </a:prstGeom>
          <a:solidFill>
            <a:srgbClr val="f682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ITC Officina Sans Book"/>
              </a:rPr>
              <a:t>Spirits of Spl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ITC Officina Sans Book"/>
              </a:rPr>
              <a:t>The Spirits of Split is a live action role playing game that creates interaction between tourists and lo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ITC Officina Sans Book"/>
              </a:rPr>
              <a:t>The touris</a:t>
            </a:r>
            <a:r>
              <a:rPr b="0" lang="hr-HR" sz="2800" spc="-1" strike="noStrike">
                <a:solidFill>
                  <a:srgbClr val="000000"/>
                </a:solidFill>
                <a:latin typeface="ITC Officina Sans Book"/>
              </a:rPr>
              <a:t>ts should start the game in the city core at one of the local tourist’s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64360" y="2133720"/>
            <a:ext cx="1814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ITC Officina Sans Book"/>
              </a:rPr>
              <a:t>Spirits of Spl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62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To play the game, the touris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ITC Officina Sans Book"/>
              </a:rPr>
              <a:t>Collect a packet of keys, cube-frame, and a broch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ITC Officina Sans Book"/>
              </a:rPr>
              <a:t>Walk around the palace and locates the historical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ITC Officina Sans Book"/>
              </a:rPr>
              <a:t>Get clues from various posters around the pa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ITC Officina Sans Book"/>
              </a:rPr>
              <a:t>Exchange a key for a c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ITC Officina Sans Book"/>
              </a:rPr>
              <a:t>Proceed until all cubes are collec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The cubes collected become a souvenir containing photographs of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952560" cy="8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828720"/>
            <a:ext cx="952200" cy="79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191360" y="2276640"/>
            <a:ext cx="1628640" cy="37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6:59:53Z</dcterms:created>
  <dc:creator>Sven Laqua</dc:creator>
  <dc:description/>
  <dc:language>en-US</dc:language>
  <cp:lastModifiedBy>miljenko</cp:lastModifiedBy>
  <dcterms:modified xsi:type="dcterms:W3CDTF">2004-09-09T22:39:08Z</dcterms:modified>
  <cp:revision>4</cp:revision>
  <dc:subject/>
  <dc:title>Spirits of Split</dc:title>
</cp:coreProperties>
</file>